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jpeg" ContentType="image/jpeg"/>
  <Override PartName="/ppt/media/image12.png" ContentType="image/pn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2032-56EA-4AC7-A005-F955C080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61459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4C16-FB56-4D93-A7DA-A2FF6074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5DD6-4E1A-43DC-A091-5C20D897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0E2-6E02-4D48-9761-1184AC07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62120" y="43430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5841-1275-4691-B3AF-A8A700A9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5156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371600" y="61459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5156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3556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9988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37160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3556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69988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70F5-E285-4062-9ED7-271A5A3F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F496-ACAB-4B22-94F5-A793AA3A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8B42-F673-4F53-B715-236FA8BE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7315-5047-4A3E-AF3D-01EDC785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8419-8990-44AB-9484-760799CE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786C-586E-4766-83C4-6E25ACBD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2120" y="43430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D461-1272-49AE-8FCE-511935E1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1196-C7DA-4F56-88F1-361FE01A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C004-2725-4628-BF8C-E864189E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083F-F023-4F89-98DA-5D5C09B9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61459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0177-8688-43E1-9CED-0EDE019F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0683-9C93-4361-85B4-DDD36A16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A6BF-A3A7-4741-B1C5-DC396956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A5692-95A9-4EBD-8D49-D374EEA6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0C7D5-71E5-4B14-A955-69BADABC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DF0CB-E26F-4AB9-A6FF-D3AF1D07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EB4B-A541-4C07-8EA9-7E55082E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5D969-7ECD-4C8A-8833-BD862DD8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F1CA3-2479-4970-81E6-6DFF1794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2120" y="43430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904BD-C63B-4548-BB4B-5AF43E0D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EF762-C627-4309-8F44-5BED1342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5156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9DC22-70BF-4BE4-A172-2CE368CB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32653-2D89-440A-97FF-71E9613A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371600" y="61459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0498E-3D31-416C-A700-4E30173C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5156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EEDFD-7C6D-4F90-B079-293665EC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3556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69988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37160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3556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69988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BFB45-2BA9-49BB-BB4D-853EA000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171-9288-4059-9190-BDAA1666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762120" y="43430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5156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371600" y="61459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5156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43430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040-E04D-4EDA-9CDB-2734F2C2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3556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699880" y="58672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37160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53556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699880" y="61459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2FF-3297-4C50-8D67-6A3FFB40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61459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5173-4874-4087-ADD8-21255BA4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58672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61459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DBBE-4E47-4089-9C2E-1A4F047D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8903-08E6-4F8C-849A-578DBE1402C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7675-CB63-4747-989A-37D45E2383F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DCFE-EE8F-4894-9CD5-78922113541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3885840"/>
            <a:ext cx="8991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 Black"/>
              </a:rPr>
              <a:t>Lesson7 My Friend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454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Thank You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！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把介绍李明给我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82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Microsoft JhengHei"/>
              </a:rPr>
              <a:t>This is  Li M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0000"/>
                </a:solidFill>
                <a:uFillTx/>
                <a:latin typeface="Microsoft JhengHei"/>
              </a:rPr>
              <a:t>He's</a:t>
            </a:r>
            <a:r>
              <a:rPr b="1" lang="zh-CN" sz="4800" spc="-1" strike="noStrike">
                <a:solidFill>
                  <a:srgbClr val="000000"/>
                </a:solidFill>
                <a:latin typeface="Microsoft JhengHei"/>
              </a:rPr>
              <a:t>  my 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Microsoft JhengHei"/>
              </a:rPr>
              <a:t>friend</a:t>
            </a:r>
            <a:r>
              <a:rPr b="1" lang="zh-CN" sz="4800" spc="-1" strike="noStrike">
                <a:solidFill>
                  <a:srgbClr val="000000"/>
                </a:solidFill>
                <a:latin typeface="Microsoft JhengHei"/>
              </a:rPr>
              <a:t>.(</a:t>
            </a:r>
            <a:r>
              <a:rPr b="1" lang="zh-CN" sz="4800" spc="-1" strike="noStrike">
                <a:solidFill>
                  <a:srgbClr val="000000"/>
                </a:solidFill>
                <a:latin typeface="Microsoft JhengHei"/>
              </a:rPr>
              <a:t>朋友</a:t>
            </a:r>
            <a:r>
              <a:rPr b="1" lang="zh-CN" sz="4800" spc="-1" strike="noStrike">
                <a:solidFill>
                  <a:srgbClr val="000000"/>
                </a:solidFill>
                <a:latin typeface="Microsoft JhengHei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216360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珍妮介绍给我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2590920"/>
            <a:ext cx="51051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077840" y="1752480"/>
            <a:ext cx="1424160" cy="4038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510000" y="2197080"/>
            <a:ext cx="357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1981080"/>
            <a:ext cx="44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This is  Jenn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191120"/>
            <a:ext cx="64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She's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my frie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把你的朋友介绍给我：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79250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This is ___.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姓名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He's my frie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She's my frie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87680" y="384984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 Black"/>
                <a:ea typeface="宋体"/>
              </a:rPr>
              <a:t>当你认识了新朋友应该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97760" y="5029200"/>
            <a:ext cx="58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ff"/>
                </a:solidFill>
                <a:latin typeface="Arial Black"/>
              </a:rPr>
              <a:t>Nice to meet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722160" y="196704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434340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ppl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5362560" cy="32004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80880" y="3505320"/>
            <a:ext cx="2590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22160" y="196704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24280" y="419112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宋体"/>
              </a:rPr>
              <a:t>oo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2971800" y="152280"/>
            <a:ext cx="5472000" cy="3200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80880" y="3505320"/>
            <a:ext cx="3638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22160" y="196704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67080" y="4267080"/>
            <a:ext cx="256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宋体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3124080" cy="2819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3"/>
          <a:stretch/>
        </p:blipFill>
        <p:spPr>
          <a:xfrm>
            <a:off x="1447920" y="152280"/>
            <a:ext cx="6400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22160" y="196704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403848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宋体"/>
              </a:rPr>
              <a:t>d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宋体"/>
              </a:rPr>
              <a:t>oo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3352680" y="152280"/>
            <a:ext cx="5105520" cy="3276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0" y="2743200"/>
            <a:ext cx="34290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Homewor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背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四个字母的大小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宋体"/>
              </a:rPr>
              <a:t>总结一下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宋体"/>
              </a:rPr>
              <a:t>1—7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宋体"/>
              </a:rPr>
              <a:t>课我们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过的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宋体"/>
              </a:rPr>
              <a:t>句子，自己编一段对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6T03:11:07Z</dcterms:created>
  <dc:creator/>
  <dc:description/>
  <cp:keywords/>
  <dc:language>en-US</dc:language>
  <cp:lastModifiedBy>Windows 用户</cp:lastModifiedBy>
  <dcterms:modified xsi:type="dcterms:W3CDTF">2014-10-13T13:37:50Z</dcterms:modified>
  <cp:revision>22</cp:revision>
  <dc:subject/>
  <dc:title>Hello! Welcome to Review!  欢迎来到复习课！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  <property fmtid="{D5CDD505-2E9C-101B-9397-08002B2CF9AE}" pid="3" name="Version">
    <vt:r8>1</vt:r8>
  </property>
</Properties>
</file>